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85F-58D1-4A21-9247-CB0DF1DB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989-17FE-4D46-9B5F-2A0BC412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4CE0-7720-44E5-90BB-65200443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F53-C677-4CB9-BD00-07CC04953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861-C762-4418-836B-AEDCDBAC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A3D-2F96-4323-B5F8-FFC28B2E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037-7683-4513-BB5D-317759A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33B-984E-4222-BB01-CBE636D9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8D1-BFCD-4464-A2E0-9C096C69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B0FF-0565-49B5-9720-88D0F581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B366-1DB9-40F0-8338-1DB1A672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495-9DFA-416E-A967-ACC0860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9607-3981-41D3-B99D-7E1A9923A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uthority’s principal function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Promoting adherence to the highest standards in the profess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Reviewing the financial statements of certain companies and other undertaking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-operating in the development of accounting standards and practice not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nsidering applications for recognition for audit purpos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upervising the manner in which the accountancy bodies monitor (including work quality) and regulate (including investigation and disciplinary functions) their member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Where deemed appropriate, conducting investgations into bodies and/or me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-operating in the development of auditing and ethical standar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Brief outline of IAASA function re: Supervision of Accountancy Bo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cribed 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odies recognised under the 1990 Act for audit purposes (i.e. ACCA, ICAEW, ICAI, ICAS, ICPAI, IIPA)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odies prescribed by the Minister (AIA, CIMA and CIPF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effect of Prescription i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ing prescriptees within the Authority’s supervisory remit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 prescriptees to contribute towards the Authority’s fu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upervision of Accountancy Bo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’s statutory remit, in relation to the prescribed bodies, can be divided into the following catego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pprov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ion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vestigation/enforc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more information on the Authority’s function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re: Supervision of Accountancy Bodies</a:t>
            </a:r>
            <a:r>
              <a:rPr b="1" i="1" lang="en-GB" sz="2400" spc="-1" strike="noStrike">
                <a:solidFill>
                  <a:srgbClr val="ff3300"/>
                </a:solidFill>
                <a:latin typeface="Times New Roman"/>
              </a:rPr>
              <a:t> at www.iaasa.i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nancial Reporting Supervision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Principal functions of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inancial Reporting Review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monitor whether the accounts of certain classes of companies and other undertakings comply with the Companies Acts and IAS Reg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isting the Board to discharge its functions as an advisor to the Minister on accounting related matt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o-operating in the development of accounting standards and practice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iaising with other countries’ financial reporting monitoring bo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veloping policy regarding the imposition of levies on the Authority’s financial statement supervision constitu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entifying, and maintaining under review, the composition of the Authority’s financial statement review constituen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Compliance with the Companies Acts and the IAS Reg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pliance with Companies Acts includes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prescribed forma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tatutory disclosure requirement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dherence to ‘applicable accounting standards’ –primarily IASB and ASB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uthority’s Review Constit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plcs (whether listed or no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subsidiary undertakings of pl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private companies limited by shares that, in both in the relevant financial year and the immediately preceding financial year, satisfy the following criter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lance sheet total exceeds €25m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urnover exceeds €50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private companies limited by shares which, when aggregated with their subsidiary undertakings, exceed the aforementioned threshold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subsidiary undertakings of the preceding class of private companies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rtain other undertakings, and where applicable their subsidiary undertakings, that satisfy the aforementioned criteria, including unlimited companies and partnerships whose members having unlimited liability are themselves limited compan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evant Exem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provides potential exemptions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entities already subject to, what in the Minister’s opinion, is an appropriate level of supervision/regu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ight, for example, include Part XIII companies and UC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10000"/>
              </a:lnSpc>
              <a:spcBef>
                <a:spcPts val="499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110 TCA ’97 entities (securitisation vehicl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Proposed Approach to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Financial Statement Super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ct suggests a proactive rather than reactive approach to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isk analysis methodology has been develo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riteria for selection will inclu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Risk of material misstatement in the financial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Potential impact on users of financial sta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upplemented with random selection of FS for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mplaint from public may also trigger a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mphasis will be on instances of material non-compli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al Reporting Supervision Function of IA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hael Kavana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 of Financial Reporting Super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circumstances where there is, or may be, an issue regarding a set of financial statements’ compliance with the Companies Acts or the IAS Regulation, and those financial statements have be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sseminated to members in advance of the AGM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aid before the AGM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elivered to the Regis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 may give notice to the directors of the entity concer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forementioned notice must specif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matters in respect of which it appears to the Authority that a question of non-compliance arises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period of not less than 30 days in which the directors are required to furnish the Authority with an explanation of the financial statements or prepare revised financial stat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the event that, at the end of the specified period, the directors have neither, in the Authority’s opin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given a satisfactory expla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nor revised the financial state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 may apply to the High Court for a declaration of non-compliance and associated or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f, having considered the matter, the High Court is satisfied that an instance of non-compliance exists, the Court may make a declaration to that effect and may order the follow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revision of the financial statements and/or directors’ repor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re-audit of the financial 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at the directors take specified steps to bring the Court order to the notice of persons likely to rely on the financial 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at the Authority’s, and reporting entity’s, costs be awarded against the directors (in that context, every person who was a director at the time the financial statements were approved is considered to have been a party to that approval unless s/he can show that they took all reasonable steps to prevent approval (section 26(9)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 the event of an application being made to the High Court, the Authority is required to furnish the CRO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of the application;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general statement of the matters at iss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n the conclusion of proceedings, the Authority is required to furnish the CRO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py of the Court Order;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ice that the application has failed or has been withdra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dvisor to the Minister on accounting related mat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Has so far included a number of policy issues regarding accounting standards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iaising with other Financial Reporting Monitoring Bod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ctive participant in EECS (European Enforcement Co-ordination Sessions) – sub committee of CE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ECS – Forum for discussing and co-ordinating “enforcement” decisions in EU/E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database of IFRS enforcement decisions in the EU/EEA has been established – authoritative prece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ESR/EECS liasing with IASB and SEC on various matters of mutual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Levy of financial reporting supervision constitu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Aspects to funding 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y to day operation of IAAS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40% Excheq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60% Prescribed accountancy bo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erv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0% Excheq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30% Prescribed accountancy bo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50% Review constit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chequer &amp; Prescribed Bodies contribution -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budget – 2006: €2.297m, provided th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equ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19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7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3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PA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96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IP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54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21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8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P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5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4,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he ‘Reserve Fund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ection 15 of the Act requires the Authority to establish and maintain a Reserve F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purposes of the Fund is twofold, namely to discharge the costs associated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nforcement in instances of non-compliance of financial statements with the Companies Acts and, where applicable, Article 4 of the IAS Regulation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vestigations into possible breaches of an accountancy body’s standards etc. by a memb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rief history and overview of the 2003 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ackground to IAASA - Objects 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inancial Reporting Supervis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levant Exemptions / S15 Lev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uthority developing policy options on S15 lev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sideration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is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a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st/benefit considerations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gal advice received by the Author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lexities in identifying review constituency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ivate companies’ turnover and total assets figures not captured by CRO. Therefore, a large scale manual exercise is require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17 guarante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lers of ultimate group financial stat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dentity of S110 compan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26358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earch commissioned to establish the scale of the constituen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ther current activities of the Financial Reporting Supervision Unit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well as aforementioned –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c consultation on levy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ber of EECS working party on enforcement method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presentation at ASB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urther information on the Authority and its activities may be obtained fro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IA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IE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 Floor, Willow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Millennium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N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Co. Kild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Tel: +353 (0)45 983600      Fax: +353 (0)45 9836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Email: info@iaasa.ie    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Web: www.iaasa.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www.iaasa.eu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ish Auditing and Accounting Supervisory Authority (IAASA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ncial Reporting Supervision Function is part of IAASA so who are IAASA and what are its functions ……………………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view Group on Auditing (2000) - Terms of reference included an examin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ther self regulation of the accountancy profession was working effectively and consistentl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uditor independence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ole of the auditor in ensuring companies’ compliance with law and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GA recommendations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stablishment of an Oversight bod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nancial reporting review function;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quirement for Directors’ Compliance Stat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he 2003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GA’s recommendations given the force of law by the Companies (Auditing and Accounting) Act, 200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2003 Act deals principally wit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establishment of IAASA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IE" sz="1600" spc="-1" strike="noStrike">
                <a:solidFill>
                  <a:srgbClr val="000000"/>
                </a:solidFill>
                <a:latin typeface="Times New Roman"/>
              </a:rPr>
              <a:t>Other Measures to Strengthen the Regulation of Auditors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’, includ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statutory backing for accounting standard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audit committe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isclosure of accounting polici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isclosure of auditors’ remuneration (analysed by audit, audit related and non-audit)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irectors’ Compliance State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AASA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ompany ltd. by guarantee - Board comprises 15 directors, nominated thu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2 (including the Chairperson) nominated by the Minist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3 nominated jointly by the prescribed accountancy bod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9 nominated by the following bodies (1 each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BEC                            IC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AIM                            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ensions Board            IFS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Revenue                       D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w Soci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hief Execu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aximum of 5 of the 15 directors may be members of prescribed accountancy bod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AASA- key sta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Times New Roman"/>
              </a:rPr>
              <a:t>Chief Executive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– Ian Drenn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ead of Financial Reporting Supervi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Michael Kavana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ead of Regulatory &amp; Monitoring Supervi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Helen Hal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retary &amp; Head of Legal 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Jane Meeh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nce &amp; Administration 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Fergal Ó Bri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000000"/>
                </a:solidFill>
                <a:latin typeface="Times New Roman"/>
              </a:rPr>
              <a:t>Project manager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– Bridget Ry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tatutory Remit (S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supervise how the prescribed accountancy bodies regulate and monitor their memb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promote adherence to high professional standards in the auditing &amp; accountancy profess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monitor whether the accounts of certain classes of companies and other undertakings comply with the Companies Acts and, where applicable, Article 4 of the IAS Regulation [reference to IFRS inserted by S.I. No. 116 of 2005]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act as a specialist source of advice to the Minister on auditing and accounting matt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All commenced at this stage except no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5:17:43Z</dcterms:created>
  <dc:creator>mkavanagh</dc:creator>
  <dc:description/>
  <dc:language>en-US</dc:language>
  <cp:lastModifiedBy>fobriain</cp:lastModifiedBy>
  <dcterms:modified xsi:type="dcterms:W3CDTF">2006-05-09T10:11:46Z</dcterms:modified>
  <cp:revision>8</cp:revision>
  <dc:subject/>
  <dc:title>Slide 1</dc:title>
</cp:coreProperties>
</file>