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87BD2-E047-42D6-B041-C59DC23DA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EAE2E-9F61-4BB4-A917-11721DD87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B67A8-0D90-482F-AD44-BE50522B1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0DE1C-9F85-4C87-851A-182E871DB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11C50-E732-4681-931C-1F8118D92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A391B-9303-46CF-9DA5-25D52D737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B6EEB-2F03-4A6A-A19C-676D6946E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B4CC8-78B1-489D-99FB-CE2C5D70E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6BB14-E6F0-44FC-A8EF-D3F67F702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678D5-E224-4F90-A38A-55B1D69A6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5AB2E-B7A9-4EF7-AB23-A68A36DE1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B2B5F-6D57-4F11-A5AD-4FE6C0E16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1257-0092-479D-A661-008164EFDF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Objectives of</a:t>
            </a:r>
            <a:br>
              <a:rPr sz="4000"/>
            </a:br>
            <a:r>
              <a:rPr b="0" lang="en-IE" sz="4000" spc="-1" strike="noStrike">
                <a:solidFill>
                  <a:srgbClr val="000000"/>
                </a:solidFill>
                <a:latin typeface="Times New Roman"/>
              </a:rPr>
              <a:t>Financial Statement Supervision</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Objectives of financial statement supervisio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o enhance public confidence in relevant entities’ financial reporting;</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 </a:t>
            </a:r>
            <a:r>
              <a:rPr b="0" lang="en-IE" sz="1400" spc="-1" strike="noStrike">
                <a:solidFill>
                  <a:srgbClr val="000000"/>
                </a:solidFill>
                <a:latin typeface="Times New Roman"/>
              </a:rPr>
              <a:t>to promote, and contribute to the protection of, the public interest;</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o contribute to the enhancement of Ireland’s reputation as a low risk economy in which to invest and conduct busines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o contribute to the promotion of best practice in co-operation with interested partie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o ensure that those having legitimate complaints regarding those aspects of financial reporting coming within the Authority’s remit have access to redres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o ensure that instances of non-compliance are addressed in an appropriate and proportionate manner.</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Proposed Approach to</a:t>
            </a:r>
            <a:br>
              <a:rPr sz="4000"/>
            </a:br>
            <a:r>
              <a:rPr b="0" lang="en-IE" sz="4000" spc="-1" strike="noStrike">
                <a:solidFill>
                  <a:srgbClr val="000000"/>
                </a:solidFill>
                <a:latin typeface="Times New Roman"/>
              </a:rPr>
              <a:t>Financial Statement Supervision</a:t>
            </a: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Procedures governing financial statement review will be transparent, published and made widely availabl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Proactive rather than reactive approach to monitoring;</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isk based selection methodologies will be employed which may, for example, give rise to:</a:t>
            </a:r>
            <a:endParaRPr b="0" lang="en-US" sz="16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entity/group specific reviews; and/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ssue/sectoral specific review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 commitology approach will be adopted by the Authority;</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Emphasis will be on instances of material non-complianc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ssues, other than those resulting in a restatement of financial statements or notification to the Registrar, will be dealt with on a confidential basi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Where appropriate, the Authority is likely to seek to resolve issues arising through dialogue with affected parties – audit committees likely to have a key role in such contact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However, where, in the Authority’s view, a more formal approach is warranted, section 26 of the Act provides a formal enforcement mechanism.</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 circumstances where there is, or may be, a question regarding a set of financial statements’ compliance with the Companies Acts or, where applicable, Article 4 of the IAS Regulation, and those financial statements have been:</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disseminated to members in advance of the AGM; or</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laid before the AGM; or</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delivered to the Registrar</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Authority may give notice to the directors of the entity concerned.</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aforementioned notice must specify:</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he matters in respect of which it appears to the Authority that a question of non-compliance arises; and</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 period of not less than 30 days in which the directors are required to furnish the Authority with an explanation of the financial statements or prepare revised financial statements.</a:t>
            </a: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 the event that, at the end of the specified period, the directors have neither, in the Authority’s opinion, given a satisfactory explanation nor revised the financial statements, the Authority may apply to the High Court for a declaration of non-compliance and associated order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f, having considered the matter, the High Court is satisfied that an instance of non-compliance exists, the Court may make a declaration to that effect and may, </a:t>
            </a:r>
            <a:r>
              <a:rPr b="0" i="1" lang="en-IE" sz="1600" spc="-1" strike="noStrike">
                <a:solidFill>
                  <a:srgbClr val="000000"/>
                </a:solidFill>
                <a:latin typeface="Times New Roman"/>
              </a:rPr>
              <a:t>inter alia</a:t>
            </a:r>
            <a:r>
              <a:rPr b="0" lang="en-IE" sz="1600" spc="-1" strike="noStrike">
                <a:solidFill>
                  <a:srgbClr val="000000"/>
                </a:solidFill>
                <a:latin typeface="Times New Roman"/>
              </a:rPr>
              <a:t>; order the following:</a:t>
            </a:r>
            <a:endParaRPr b="0" lang="en-US" sz="16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revision of the financial statements and/or directors’ repor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re-audit of the financial statement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at the directors take specified steps to bring the Court order to the notice of persons likely to rely on the financial statement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at the Authority’s, and reporting entity’s, costs be awarded against the directors (in that context, every person who was a director at the time the financial statements were approved is considered to have been a party to that approval unless s/he can show that they took all reasonable steps to prevent approval (section 26(9)).</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Enforcement</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 the event of an application being made to the High Court, the Authority is required to furnish the Registrar with:</a:t>
            </a:r>
            <a:endParaRPr b="0" lang="en-US" sz="16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tice of the application; and</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general statement of the matters at issu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n the conclusion of proceedings, the Authority is required to furnish the Registrar with:</a:t>
            </a:r>
            <a:endParaRPr b="0" lang="en-US" sz="1600" spc="-1" strike="noStrike">
              <a:solidFill>
                <a:srgbClr val="000000"/>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 copy of the Court Order; or</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tice that the application has failed or has been withdrawn.</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Consistent Enforcement</a:t>
            </a:r>
            <a:br>
              <a:rPr sz="4000"/>
            </a:br>
            <a:r>
              <a:rPr b="0" lang="en-IE" sz="4000" spc="-1" strike="noStrike">
                <a:solidFill>
                  <a:srgbClr val="000000"/>
                </a:solidFill>
                <a:latin typeface="Times New Roman"/>
              </a:rPr>
              <a:t>of IFRS in the EU</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IAS Regulation provides, </a:t>
            </a:r>
            <a:r>
              <a:rPr b="0" i="1" lang="en-IE" sz="1600" spc="-1" strike="noStrike">
                <a:solidFill>
                  <a:srgbClr val="000000"/>
                </a:solidFill>
                <a:latin typeface="Times New Roman"/>
              </a:rPr>
              <a:t>inter alia</a:t>
            </a:r>
            <a:r>
              <a:rPr b="0" lang="en-IE" sz="1600" spc="-1" strike="noStrike">
                <a:solidFill>
                  <a:srgbClr val="000000"/>
                </a:solidFill>
                <a:latin typeface="Times New Roman"/>
              </a:rPr>
              <a:t>, that a proper and rigorous enforcement regime is key to underpinning investors’ confidence in financial markets and, in that context, that</a:t>
            </a:r>
            <a:r>
              <a:rPr b="0" i="1" lang="en-IE" sz="1600" spc="-1" strike="noStrike">
                <a:solidFill>
                  <a:srgbClr val="000000"/>
                </a:solidFill>
                <a:latin typeface="Times New Roman"/>
              </a:rPr>
              <a:t>‘…the </a:t>
            </a:r>
            <a:r>
              <a:rPr b="0" lang="en-IE" sz="1600" spc="-1" strike="noStrike">
                <a:solidFill>
                  <a:srgbClr val="000000"/>
                </a:solidFill>
                <a:latin typeface="Times New Roman"/>
              </a:rPr>
              <a:t>[EU]</a:t>
            </a:r>
            <a:r>
              <a:rPr b="0" i="1" lang="en-IE" sz="1600" spc="-1" strike="noStrike">
                <a:solidFill>
                  <a:srgbClr val="000000"/>
                </a:solidFill>
                <a:latin typeface="Times New Roman"/>
              </a:rPr>
              <a:t> Commission intends to liaise with member States, notably through the Committee of European Securities Regulators (CESR), to develop a common approach to enforcement</a:t>
            </a:r>
            <a:r>
              <a:rPr b="0" lang="en-IE"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o that end, CESR has established an enforcement co-ordination forum, at which the Authority is represente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rough that forum, a database of member States’ enforcement decisions regarding IFRS will be established.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While not having the strict status of precedents, these decisions will serve to inform other enforcers’ deliberative and decision making process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Reserve Fund’</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Section 15 of the Act requires the Authority to establish and maintain a Reserve Fun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purposes of the Fund is twofold, namely to discharge the costs associated with:</a:t>
            </a:r>
            <a:endParaRPr b="0" lang="en-US" sz="16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enforcement in instances of non-compliance of financial statements with the Companies Acts and, where applicable, Article 4 of the IAS Regulation; and</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investigations into possible breaches of an accountancy body’s standards etc. by a member.</a:t>
            </a:r>
            <a:endParaRPr b="0" lang="en-US" sz="1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For the purposes of resourcing the Fund, in addition to the funding provided by the exchequer and accountancy bodies respectively, the Act allows the Authority to levy those entities, or subsets thereof, coming within its financial statement review remi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Reserve Fund’</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However, prior to the imposition of a levy on the affected entities, the Authority is required to:</a:t>
            </a:r>
            <a:endParaRPr b="0" lang="en-US" sz="1600" spc="-1" strike="noStrike">
              <a:solidFill>
                <a:srgbClr val="000000"/>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consult with any persons who are interested in the matter;</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establish criteria for apportioning the levy among those classes of undertakings affected; and</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obtain the Minister’s consent for the proposed apportionment model.</a:t>
            </a: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 addition to the foregoing, the Minister may also specify a maximum amount that may be set aside in the Fun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Interim Board is of the view that, after a period of three years, the Fund balance should be of the order of €500k.</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imetable</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Ministerial approval process completed in the past week;</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ecruitment campaign imminen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ommencement of statutory functions anticipated in the autumn, following the appointment of key staff.</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AASA – What Does It Mean For Audit Committees?</a:t>
            </a:r>
            <a:endParaRPr b="0" lang="en-US" sz="4000" spc="-1" strike="noStrike">
              <a:solidFill>
                <a:srgbClr val="000000"/>
              </a:solidFill>
              <a:latin typeface="Times New Roman"/>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at the</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it Committee Institute Breakfast Seminar</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rad Hotel, Dublin</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May, 2005</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n Drennan</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ief Executive (Designate)</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Further Informatio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Further information on the Authority and its activities may be obtained from:</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IAASA</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3013 Lake Drive</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Citywest Business Campus</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Dublin 24</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353 (0)1 469 3702</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info@iaasa.ie</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rPr>
              <a:t>www.iaasa.ie</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End of Presentation</a:t>
            </a:r>
            <a:endParaRPr b="0" lang="en-US" sz="3600" spc="-1" strike="noStrike">
              <a:solidFill>
                <a:srgbClr val="000000"/>
              </a:solidFill>
              <a:latin typeface="Times New Roman"/>
            </a:endParaRPr>
          </a:p>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Thank You</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Presentation 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2003 Act – overview</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Objects of the Authorit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Audit Committees and the 2003 Ac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Compliance with the Companies Acts and the IAS Regulat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Review Constituenc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Objectives of Financial Statement Supervi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Proposed Approach</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Enforcemen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he Reserve Fun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rPr>
              <a:t>Timetabl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The 2003 Act</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RGA’s recommendations given the force of law by the Companies (Auditing and Accounting) Act, 2003.</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Act deals principally with:</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1. Provisions for the establishment of the Authority; and</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2. ‘</a:t>
            </a:r>
            <a:r>
              <a:rPr b="0" i="1" lang="en-IE" sz="1400" spc="-1" strike="noStrike">
                <a:solidFill>
                  <a:srgbClr val="000000"/>
                </a:solidFill>
                <a:latin typeface="Times New Roman"/>
              </a:rPr>
              <a:t>Other Measures to Strengthen the Regulation of Auditors</a:t>
            </a:r>
            <a:r>
              <a:rPr b="0" lang="en-IE" sz="1400" spc="-1" strike="noStrike">
                <a:solidFill>
                  <a:srgbClr val="000000"/>
                </a:solidFill>
                <a:latin typeface="Times New Roman"/>
              </a:rPr>
              <a:t>’, including:</a:t>
            </a:r>
            <a:endParaRPr b="0" lang="en-US" sz="1400" spc="-1" strike="noStrike">
              <a:solidFill>
                <a:srgbClr val="000000"/>
              </a:solidFill>
              <a:latin typeface="Times New Roman"/>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 requirement to include a statement in individual and consolidated financial statements as to whether those financial statements have been prepared in accordance with applicable accounting standards;</a:t>
            </a:r>
            <a:endParaRPr b="0" lang="en-US" sz="1400" spc="-1" strike="noStrike">
              <a:solidFill>
                <a:srgbClr val="000000"/>
              </a:solidFill>
              <a:latin typeface="Times New Roman"/>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 requirement to disclose details of any material departure(s) from applicable accounting standards, together with the reasons for, and effect(s) of, any such departure(s);</a:t>
            </a:r>
            <a:endParaRPr b="0" lang="en-US" sz="1400" spc="-1" strike="noStrike">
              <a:solidFill>
                <a:srgbClr val="000000"/>
              </a:solidFill>
              <a:latin typeface="Times New Roman"/>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1430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 requirement for disclosure of accounting policies in the notes to financial statements;</a:t>
            </a:r>
            <a:endParaRPr b="0" lang="en-US" sz="1400" spc="-1" strike="noStrike">
              <a:solidFill>
                <a:srgbClr val="000000"/>
              </a:solidFill>
              <a:latin typeface="Times New Roman"/>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Non-compliance with any of the foregoing provisions will constitute a criminal offence.</a:t>
            </a:r>
            <a:endParaRPr b="0" lang="en-US" sz="1400" spc="-1" strike="noStrike">
              <a:solidFill>
                <a:srgbClr val="000000"/>
              </a:solidFill>
              <a:latin typeface="Times New Roman"/>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Supervisory Authority - Object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Authority’s principal objects ar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t>
            </a:r>
            <a:r>
              <a:rPr b="0" i="1" lang="en-IE" sz="1600" spc="-1" strike="noStrike">
                <a:solidFill>
                  <a:srgbClr val="000000"/>
                </a:solidFill>
                <a:latin typeface="Times New Roman"/>
              </a:rPr>
              <a:t>To supervise how the prescribed accountancy bodies regulate and monitor their members;</a:t>
            </a:r>
            <a:endParaRPr b="0" lang="en-US" sz="1600" spc="-1" strike="noStrike">
              <a:solidFill>
                <a:srgbClr val="000000"/>
              </a:solidFill>
              <a:latin typeface="Times New Roman"/>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Times New Roman"/>
              </a:rPr>
              <a:t>To promote adherence to high professional standards in the auditing and accountancy profession;</a:t>
            </a:r>
            <a:endParaRPr b="0" lang="en-US" sz="16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600" spc="-1" strike="noStrike">
                <a:solidFill>
                  <a:srgbClr val="000000"/>
                </a:solidFill>
                <a:latin typeface="Times New Roman"/>
              </a:rPr>
              <a:t>To monitor whether the accounts of certain companies and other undertakings comply with the Companies Acts [and, where applicable, Article 4 of the IAS Regulation]; and</a:t>
            </a:r>
            <a:endParaRPr b="0" lang="en-US" sz="1600" spc="-1" strike="noStrike">
              <a:solidFill>
                <a:srgbClr val="000000"/>
              </a:solidFill>
              <a:latin typeface="Times New Roman"/>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000000"/>
                </a:solidFill>
                <a:latin typeface="Times New Roman"/>
              </a:rPr>
              <a:t>To act as a specialist source of advice to the Minister on auditing and accounting matters.</a:t>
            </a:r>
            <a:r>
              <a:rPr b="0" lang="en-IE"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Audit Committees and the 2003 Act</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Section 42 will, on commencement, require the boards of all plcs not otherwise exempt to constitute an Audit Committee;</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section goes on to prescribe specific </a:t>
            </a:r>
            <a:r>
              <a:rPr b="0" lang="en-IE" sz="1600" spc="-1" strike="noStrike" u="sng">
                <a:solidFill>
                  <a:srgbClr val="000000"/>
                </a:solidFill>
                <a:uFillTx/>
                <a:latin typeface="Times New Roman"/>
              </a:rPr>
              <a:t>statutory</a:t>
            </a:r>
            <a:r>
              <a:rPr b="0" lang="en-IE" sz="1600" spc="-1" strike="noStrike">
                <a:solidFill>
                  <a:srgbClr val="000000"/>
                </a:solidFill>
                <a:latin typeface="Times New Roman"/>
              </a:rPr>
              <a:t> functions for such committees. These include:</a:t>
            </a:r>
            <a:endParaRPr b="0" lang="en-US" sz="16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reviewing the individual and, where applicable, group financial statements in advance of presentation to the board for approval;</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determining whether the financial statements comply with those provisions of the Act relating to compliance with, and disclosure in respect of, ‘applicable accounting standards’;</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determining whether, in the committee’s opinion, the financial statements give a true &amp; fair view of the entity’s/group’s state of affairs and of its financial performance in the period in question.</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s a consequence, the Authority’s financial statement review remit will be of direct and ongoing relevance to Audit Committe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Times New Roman"/>
              </a:rPr>
              <a:t>Compliance with the Companies Acts and the IAS Regulation</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 monitoring whether financial statements have been prepared in accordance with company law and, where applicable, the IAS Regulation, relevant considerations will include, </a:t>
            </a:r>
            <a:r>
              <a:rPr b="0" i="1" lang="en-IE" sz="1600" spc="-1" strike="noStrike">
                <a:solidFill>
                  <a:srgbClr val="000000"/>
                </a:solidFill>
                <a:latin typeface="Times New Roman"/>
              </a:rPr>
              <a:t>inter alia</a:t>
            </a:r>
            <a:r>
              <a:rPr b="0" lang="en-IE"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prescribed formats;</a:t>
            </a:r>
            <a:endParaRPr b="0" lang="en-US" sz="1400" spc="-1" strike="noStrike">
              <a:solidFill>
                <a:srgbClr val="000000"/>
              </a:solidFill>
              <a:latin typeface="Times New Roman"/>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statutory disclosure requirements; </a:t>
            </a:r>
            <a:endParaRPr b="0" lang="en-US" sz="1400" spc="-1" strike="noStrike">
              <a:solidFill>
                <a:srgbClr val="000000"/>
              </a:solidFill>
              <a:latin typeface="Times New Roman"/>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dherence to ‘applicable accounting standards’ and, in cases of departure from same, disclosure of requisite detail;</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ny matters to which members’ attention has been drawn in auditors’ reports;</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where applicable, the requirements of IAS/IFRS, as adopted by the EU.</a:t>
            </a: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pplicable Accounting Standard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773000"/>
            <a:ext cx="7772400" cy="43225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Pursuant to the provisions of section 41 of the 2003 Act, ‘</a:t>
            </a:r>
            <a:r>
              <a:rPr b="0" i="1" lang="en-IE" sz="1600" spc="-1" strike="noStrike">
                <a:solidFill>
                  <a:srgbClr val="000000"/>
                </a:solidFill>
                <a:latin typeface="Times New Roman"/>
              </a:rPr>
              <a:t>applicable accounting standards</a:t>
            </a:r>
            <a:r>
              <a:rPr b="0" lang="en-IE" sz="1600" spc="-1" strike="noStrike">
                <a:solidFill>
                  <a:srgbClr val="000000"/>
                </a:solidFill>
                <a:latin typeface="Times New Roman"/>
              </a:rPr>
              <a:t>’ will, on commencement, comprise thos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statements of accounting standards; and</a:t>
            </a:r>
            <a:endParaRPr b="0" lang="en-US" sz="14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written interpretations thereof,</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that:</a:t>
            </a:r>
            <a:endParaRPr b="0" lang="en-US" sz="1400" spc="-1" strike="noStrike">
              <a:solidFill>
                <a:srgbClr val="000000"/>
              </a:solidFill>
              <a:latin typeface="Times New Roman"/>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re issued by any body, or bodies, prescribed for that purpose by regulation; and</a:t>
            </a:r>
            <a:endParaRPr b="0" lang="en-US" sz="1400" spc="-1" strike="noStrike">
              <a:solidFill>
                <a:srgbClr val="000000"/>
              </a:solidFill>
              <a:latin typeface="Times New Roman"/>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Times New Roman"/>
              </a:rPr>
              <a:t>are, in accordance with their terms, relevant to the reporting entity’s circumstances and financial statements.</a:t>
            </a: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Standard setting bodies will be determined by the Minister for Trade &amp; Commerce and will be prescribed by way of secondary legislation.  </a:t>
            </a:r>
            <a:endParaRPr b="0" lang="en-US" sz="1600" spc="-1" strike="noStrike">
              <a:solidFill>
                <a:srgbClr val="000000"/>
              </a:solidFill>
              <a:latin typeface="Times New Roman"/>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Authority’s Review Constituenc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The Authority’s review constituency comprises:</a:t>
            </a:r>
            <a:endParaRPr b="0" lang="en-US" sz="16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plcs (whether listed or no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subsidiary undertakings of plc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private companies limited by shares that, in both in the relevant financial year and the immediately preceding financial year, satisfy the following criteria:</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lance sheet total exceeds €25m; and</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urnover exceeds €50m.</a:t>
            </a:r>
            <a:endParaRPr b="0" lang="en-US" sz="14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private companies limited by shares which, when aggregated with their subsidiary undertakings, exceed the aforementioned threshold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ll subsidiary undertakings of the preceding class of private companies; an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ertain other undertakings, and where applicable their subsidiary undertakings, that satisfy the aforementioned criteria, including unlimited companies and partnerships whose members having unlimited liability are themselves limited companie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5:46:26Z</dcterms:created>
  <dc:creator>Denis Hosford</dc:creator>
  <dc:description/>
  <dc:language>en-US</dc:language>
  <cp:lastModifiedBy>Brendan Moylan</cp:lastModifiedBy>
  <dcterms:modified xsi:type="dcterms:W3CDTF">2005-08-15T11:13:13Z</dcterms:modified>
  <cp:revision>1153</cp:revision>
  <dc:subject/>
  <dc:title>PowerPoint Presentation</dc:title>
</cp:coreProperties>
</file>