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364E0-C87E-4B82-A3B1-9F423C950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30F7C-1671-4624-8F90-E5AF41762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0F42C-989C-45C3-A508-982373747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B457E-6DB1-40C8-8C55-26955989E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C90AE-F634-4AD6-8E23-DF527AD29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3711A-5943-47CB-BB14-B377D6632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F0D61-0E17-40A7-8726-ED9E35C4E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3B155-371A-4BB2-B62A-072D703EF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E4A37-134E-4F6C-9353-E3756F23F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3FC1A-5E01-4EFB-8DE0-BB354B68F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A06EF-9CC2-4FBA-9F86-FF46FEC84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CCAFD-3388-48A4-8110-4FAA688BD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D481-A1F2-420A-85BE-2F34DA4BCC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roval</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Authority’s approval functions includ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pproval of bodies’ constitutions, bye-laws, regulations and standards, together with any subsequent amendments thereto.</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Granting of recognition for the purposes of section 187 CA, 1990 (i.e. for audit purpose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attachment of conditions to recognition.</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re-approval of bodies’ regulatory and monitoring plan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pervis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Authority’s supervisory functions include:</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upervision of the investigation and disciplinary procedures of each prescribed body, including by requiring access to its records and by requiring explanations about the performance of its regulatory and monitoring dutie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upervision of how each recognised accountancy body monitors its members and the performance of ‘section 25 reviews’ of those member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ection 25 provides for the review of members of recognised bodies for the purposes of  determining whether the body in question is, or has been, regulating its members in the manner approved.</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view of bodies’ reports on their regulatory and monitoring activiti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Investigation/Enforcemen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o conduct enquiries under section 23 into whether a prescribed body has complied with its approved investigation and disciplinary procedur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Where not satisfied that a prescribed body has complied with its approved investigation and disciplinary procedures, the Authority may impose sanctions on that bod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o undertake investigations under section 24 into possible breaches (by a member) of the standards of a prescribed bod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Where a member is found to have committed a breach of a body’s standards , the Authority may impose any sanction available to the body on the membe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n discharging its remit, the Authority will seek to achieve the following objectiv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o enhance confidence in the regulatory and monitoring processes governing members of the auditing and accountancy profession;</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o protect and promote the public interest through effective, independent oversight; and</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o ensure the constitutions, bye-laws, regulations and standards of the prescribed bodies conform to a common high standard consistent with international best practi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Values/Assumption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discharge of the Authority’s remit will be predicated on the following values and assumption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Authority will act in an independent and impartial manner.</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sponsibility, in the first instance, for the regulation and, where applicable, monitoring of bodies’ members continues to reside with the prescribed bodies.</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Authority’s processes and procedures for exercising its statutory functions will be open, transparent, publicly available and widely communicated.</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determining the nature and extent of its supervisory activities, the Authority will seek to employ risk assessment methodologi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roach</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n discharging its functions, the Authority will adopt the following approach:</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ach prescribed body will be the subject of a thorough initial review.</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part of that review, each body’s systems, practices and procedures etc. will be ascertained and documented.</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firmation of the accuracy of the Authority’s understanding of each body’s systems, practices and procedures will be sought.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roach</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views will encompass, </a:t>
            </a:r>
            <a:r>
              <a:rPr b="0" i="1" lang="en-GB" sz="1800" spc="-1" strike="noStrike">
                <a:solidFill>
                  <a:srgbClr val="000000"/>
                </a:solidFill>
                <a:latin typeface="Times New Roman"/>
              </a:rPr>
              <a:t>inter alia</a:t>
            </a:r>
            <a:r>
              <a:rPr b="0" lang="en-GB" sz="1800" spc="-1" strike="noStrike">
                <a:solidFill>
                  <a:srgbClr val="000000"/>
                </a:solidFill>
                <a:latin typeface="Times New Roman"/>
              </a:rPr>
              <a:t>, examination of:</a:t>
            </a:r>
            <a:endParaRPr b="0" lang="en-US" sz="18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itutions/Memorandum &amp; Articles etc.;</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ye-law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gulation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ules of Professional Conduct;</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thics;</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plicable Standard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roach</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5000"/>
          </a:bodyPr>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laints handling procedures;</a:t>
            </a:r>
            <a:endParaRPr b="0" lang="en-US" sz="1800" spc="-1" strike="noStrike">
              <a:solidFill>
                <a:srgbClr val="000000"/>
              </a:solidFill>
              <a:latin typeface="Times New Roman"/>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vestigative processes and procedures;</a:t>
            </a:r>
            <a:endParaRPr b="0" lang="en-US" sz="1800" spc="-1" strike="noStrike">
              <a:solidFill>
                <a:srgbClr val="000000"/>
              </a:solidFill>
              <a:latin typeface="Times New Roman"/>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isciplinary processes and procedures;</a:t>
            </a:r>
            <a:endParaRPr b="0" lang="en-US" sz="1800" spc="-1" strike="noStrike">
              <a:solidFill>
                <a:srgbClr val="000000"/>
              </a:solidFill>
              <a:latin typeface="Times New Roman"/>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ppeals processes and procedures;</a:t>
            </a:r>
            <a:endParaRPr b="0" lang="en-US" sz="1800" spc="-1" strike="noStrike">
              <a:solidFill>
                <a:srgbClr val="000000"/>
              </a:solidFill>
              <a:latin typeface="Times New Roman"/>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085760" indent="-217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examination of the foregoing will include an examination of, </a:t>
            </a:r>
            <a:r>
              <a:rPr b="0" i="1" lang="en-GB" sz="1800" spc="-1" strike="noStrike">
                <a:solidFill>
                  <a:srgbClr val="000000"/>
                </a:solidFill>
                <a:latin typeface="Times New Roman"/>
              </a:rPr>
              <a:t>inter alia</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2" marL="1085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519920" indent="-217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laints disposal by the Secretary;</a:t>
            </a:r>
            <a:endParaRPr b="0" lang="en-US" sz="1600" spc="-1" strike="noStrike">
              <a:solidFill>
                <a:srgbClr val="000000"/>
              </a:solidFill>
              <a:latin typeface="Times New Roman"/>
            </a:endParaRPr>
          </a:p>
          <a:p>
            <a:pPr lvl="3" marL="1519920" indent="-217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sent order cases;</a:t>
            </a:r>
            <a:endParaRPr b="0" lang="en-US" sz="1600" spc="-1" strike="noStrike">
              <a:solidFill>
                <a:srgbClr val="000000"/>
              </a:solidFill>
              <a:latin typeface="Times New Roman"/>
            </a:endParaRPr>
          </a:p>
          <a:p>
            <a:pPr lvl="3" marL="1519920" indent="-217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pecial investigator cases, where applicable;</a:t>
            </a:r>
            <a:endParaRPr b="0" lang="en-US" sz="1600" spc="-1" strike="noStrike">
              <a:solidFill>
                <a:srgbClr val="000000"/>
              </a:solidFill>
              <a:latin typeface="Times New Roman"/>
            </a:endParaRPr>
          </a:p>
          <a:p>
            <a:pPr lvl="3" marL="1519920" indent="-217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ses referred to the Independent Reviewer;</a:t>
            </a:r>
            <a:endParaRPr b="0" lang="en-US" sz="1600" spc="-1" strike="noStrike">
              <a:solidFill>
                <a:srgbClr val="000000"/>
              </a:solidFill>
              <a:latin typeface="Times New Roman"/>
            </a:endParaRPr>
          </a:p>
          <a:p>
            <a:pPr lvl="3" marL="1519920" indent="-217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mittees’ determinations and sanctions imposed.</a:t>
            </a:r>
            <a:endParaRPr b="0" lang="en-US" sz="1600" spc="-1" strike="noStrike">
              <a:solidFill>
                <a:srgbClr val="000000"/>
              </a:solidFill>
              <a:latin typeface="Times New Roman"/>
            </a:endParaRPr>
          </a:p>
          <a:p>
            <a:pPr lvl="3" marL="151992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roach</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ssions and licensing processes and procedures, i.e. granting, renewal, revocation of certificates and authorisations etc. ;</a:t>
            </a:r>
            <a:endParaRPr b="0"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ing processes and procedures, including:</a:t>
            </a:r>
            <a:endParaRPr b="0" lang="en-US" sz="1800" spc="-1" strike="noStrike">
              <a:solidFill>
                <a:srgbClr val="000000"/>
              </a:solidFill>
              <a:latin typeface="Times New Roman"/>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ion and risk assessment methodologies;</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nitoring cycles;</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nitoring emphasis and programmes; and</a:t>
            </a:r>
            <a:endParaRPr b="0" lang="en-US" sz="1600" spc="-1" strike="noStrike">
              <a:solidFill>
                <a:srgbClr val="000000"/>
              </a:solidFill>
              <a:latin typeface="Times New Roman"/>
            </a:endParaRPr>
          </a:p>
          <a:p>
            <a:pPr lvl="3" marL="16002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up to unsatisfactory monitoring visits.</a:t>
            </a:r>
            <a:endParaRPr b="0" lang="en-US" sz="1600" spc="-1" strike="noStrike">
              <a:solidFill>
                <a:srgbClr val="000000"/>
              </a:solidFill>
              <a:latin typeface="Times New Roman"/>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roach</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Bodies’ processes and procedures will be compared and any significant different emphases, deficiencies etc. identified.</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ny deficiencies addressed as appropriate.</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Board approval for bodies’ constitutions, bye-laws, regulations and standards etc.</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scope and frequency of subsequent reviews of each body will be determing having regard to appropriate risk factors, including, </a:t>
            </a:r>
            <a:r>
              <a:rPr b="0" i="1" lang="en-IE" sz="1800" spc="-1" strike="noStrike">
                <a:solidFill>
                  <a:srgbClr val="000000"/>
                </a:solidFill>
                <a:latin typeface="Times New Roman"/>
              </a:rPr>
              <a:t>inter alia</a:t>
            </a:r>
            <a:r>
              <a:rPr b="0" lang="en-IE" sz="1800" spc="-1" strike="noStrike">
                <a:solidFill>
                  <a:srgbClr val="000000"/>
                </a:solidFill>
                <a:latin typeface="Times New Roman"/>
              </a:rPr>
              <a:t>, results of previous reviews.</a:t>
            </a:r>
            <a:endParaRPr b="0" lang="en-US" sz="18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esentation to Members of the Complaints, Disciplinary and Appeal Committee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CAI Training Day</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isson Hotel, Dubli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March, 2005</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an Drennan</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ief Executive (Designat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Going Forward</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n addition to initial reviews of each body, the following work will be undertaken:</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xamination of, and Board approval for, bodies’ annual regulatory and monitoring plan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view of bodies’ annual regulatory and monitoring activity report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erformance, on an ongoing basis, of risk based reviews of the bodies, with follow up action as appropriate.</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ttendance at bodies’ hearings periodically as observer.</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Monitoring, on an ongoing basis, of the adequacy of the bodies’ practices and procedures in light of international developmen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Going Forward</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ccept and examine applications for Recognised Body statu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ttach, and continue to monitor adherence to, conditions to recognition.</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rrange for the regulation and monitoring of individually authorised auditors by the recognised bodie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xamine proposals for, and/or require, amendments to bodies’ constitutions, bye-laws etc.</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Develop relationships with the Authority’s counterparts in the EU and further afield.</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Undertake any necessary statutory enquiries/investigations.</a:t>
            </a: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owers &amp; Sanction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Section 23</a:t>
            </a:r>
            <a:endParaRPr b="0" lang="en-US" sz="1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Authority may, for the purpose of determining whether a prescribed body has complied with its approved investigation and disciplinary procedures, enquire into:</a:t>
            </a:r>
            <a:endParaRPr b="0" lang="en-US" sz="16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decision not to undertake an investig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nduct of an investig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ny other decision by a body in relation to a possible breach by a membe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or the purpose of such an enquiry, the Authority may:</a:t>
            </a:r>
            <a:endParaRPr b="0" lang="en-US" sz="16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spect, and take copies of, all relevant documents in the possession or control of a body; an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quire a body to explain why it reached a decision referred to above and/or to explain how it conducted its investigatio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owers &amp; Sanction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f not satisifed after completing its enquiry that the prescribed body complied with approved investigation and disciplinary procedures, the Authority may:</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dvise or admonish the body;</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ensure the body by doing one or more of the following:</a:t>
            </a:r>
            <a:endParaRPr b="0" lang="en-US" sz="16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nnulling all or part of a decision;</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Directing the conduct of an investigation or the conduct of a fresh investigation;</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quiring the body to pay the Authority a sum not exceeding €125,000.</a:t>
            </a:r>
            <a:endParaRPr b="0"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ny sanction imposed by the Authority must subsequently be approved by the High Cou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body has a right of appeal to the High Court.</a:t>
            </a:r>
            <a:endParaRPr b="0" lang="en-US" sz="1600" spc="-1" strike="noStrike">
              <a:solidFill>
                <a:srgbClr val="000000"/>
              </a:solidFill>
              <a:latin typeface="Times New Roman"/>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End of presentati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hank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2003 Act – Overvie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Authority – Overview</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bjectives/Values/Assumptio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roach</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Going Forwar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owers &amp; Sanctions</a:t>
            </a:r>
            <a:endParaRPr b="0" lang="en-US" sz="20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2003 Ac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GA’s recommendations given the force of law by the Companies (Auditing and Accounting) Act, 2003.</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2003 Act deals principally with:</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1. Provisions for the establishment of the Authority; and</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2. ‘</a:t>
            </a:r>
            <a:r>
              <a:rPr b="0" i="1" lang="en-IE" sz="1600" spc="-1" strike="noStrike">
                <a:solidFill>
                  <a:srgbClr val="000000"/>
                </a:solidFill>
                <a:latin typeface="Times New Roman"/>
              </a:rPr>
              <a:t>Other Measures to Strengthen the Regulation of Auditors</a:t>
            </a:r>
            <a:r>
              <a:rPr b="0" lang="en-IE" sz="1600" spc="-1" strike="noStrike">
                <a:solidFill>
                  <a:srgbClr val="000000"/>
                </a:solidFill>
                <a:latin typeface="Times New Roman"/>
              </a:rPr>
              <a:t>’, including:</a:t>
            </a:r>
            <a:endParaRPr b="0" lang="en-US" sz="16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statutory backing for prescribed bodies’ disciplinary procedures</a:t>
            </a:r>
            <a:r>
              <a:rPr b="0" lang="en-IE" sz="1600" spc="-1" strike="noStrike">
                <a:solidFill>
                  <a:srgbClr val="000000"/>
                </a:solidFill>
                <a:latin typeface="Times New Roman"/>
              </a:rPr>
              <a:t>;</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tatutory backing for accounting standards &amp; requirement for the disclosure of accounting policie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udit committees;</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disclosure of auditors’ remuneration (analysed by audit, audit related and non-audit); an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Directors’ Compliance Statements.</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Authorit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While established by statute, and therefore a State body, the Act provides that the Authority will be constituted as a company limited by guarantee.</a:t>
            </a: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Company’s objects:</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rPr>
              <a:t>‘</a:t>
            </a:r>
            <a:r>
              <a:rPr b="1" i="1" lang="en-IE" sz="1600" spc="-1" strike="noStrike">
                <a:solidFill>
                  <a:srgbClr val="000000"/>
                </a:solidFill>
                <a:latin typeface="Times New Roman"/>
              </a:rPr>
              <a:t>To supervise how the prescribed accountancy bodies regulate and monitor their members;</a:t>
            </a:r>
            <a:endParaRPr b="0" lang="en-US" sz="1600" spc="-1" strike="noStrike">
              <a:solidFill>
                <a:srgbClr val="000000"/>
              </a:solidFill>
              <a:latin typeface="Times New Roman"/>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Times New Roman"/>
              </a:rPr>
              <a:t>To promote adherence to high professional standards in the auditing and accountancy profession;</a:t>
            </a:r>
            <a:endParaRPr b="0" lang="en-US" sz="1600" spc="-1" strike="noStrike">
              <a:solidFill>
                <a:srgbClr val="000000"/>
              </a:solidFill>
              <a:latin typeface="Times New Roman"/>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Times New Roman"/>
              </a:rPr>
              <a:t>To monitor whether the financial statements of certain companies and other undertakings comply with the Companies Acts; and</a:t>
            </a:r>
            <a:endParaRPr b="0" lang="en-US" sz="1600" spc="-1" strike="noStrike">
              <a:solidFill>
                <a:srgbClr val="000000"/>
              </a:solidFill>
              <a:latin typeface="Times New Roman"/>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Times New Roman"/>
              </a:rPr>
              <a:t>To act as a specialist source of advice to the Minister on auditing and accounting matters.</a:t>
            </a:r>
            <a:r>
              <a:rPr b="0" lang="en-IE" sz="1600" spc="-1" strike="noStrike">
                <a:solidFill>
                  <a:srgbClr val="000000"/>
                </a:solidFill>
                <a:latin typeface="Times New Roman"/>
              </a:rPr>
              <a:t>’</a:t>
            </a:r>
            <a:endParaRPr b="0" lang="en-US" sz="16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Authorit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 ‘Prescribed Accountancy Body’ is defined as:</a:t>
            </a:r>
            <a:endParaRPr b="0" lang="en-US" sz="18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 ‘Recogised Accountancy Body’; o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ny other body of accountants prescribed by the Ministe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 ‘Recognised Body’ is one that has been granted recognition for the purposes of section 187 CA, 1990 (i.e. for audit purpos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Currently 6 recognsied bodies: i.e.</a:t>
            </a:r>
            <a:endParaRPr b="0" lang="en-US" sz="18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CCA</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ICAI, ICAEW, ICA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ICPAI</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IIP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Authority</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ct provides that the Authority will derive its funding thus:</a:t>
            </a:r>
            <a:endParaRPr b="0" lang="en-US" sz="18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40% from the exchequer; an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60% from the Prescribed Bodies.</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uthority also has latitude to levy certain companies for ‘Reserve Fund’ purposes.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serve Fund is ringfenced and can only be used for </a:t>
            </a:r>
            <a:r>
              <a:rPr b="0" lang="en-IE" sz="1800" spc="-1" strike="noStrike">
                <a:solidFill>
                  <a:srgbClr val="000000"/>
                </a:solidFill>
                <a:latin typeface="Times New Roman"/>
                <a:ea typeface="Arial"/>
              </a:rPr>
              <a:t>the purposes of meeting expenses properly incurred in performing functions and exercising powers under sections 24 and 26 i.e. investigation and enforcement activities relating to members and companies respectively</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Authority</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uthority currently operating in interim mod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On formal establishment, Board will comprise 15 directors, nominated thus:</a:t>
            </a:r>
            <a:endParaRPr b="0" lang="en-US" sz="16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2 (including the Chairprson) nominated by the Minist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3 nominated jointly by the Prescribed Bodi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9 nominated by the following bodies (1 each):</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BEC                            ICTU               Law Society    </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AIM                            ISE                   Revenue </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nsions Board            IFSRA             DCE</a:t>
            </a:r>
            <a:endParaRPr b="0" lang="en-US" sz="1400" spc="-1" strike="noStrike">
              <a:solidFill>
                <a:srgbClr val="000000"/>
              </a:solidFill>
              <a:latin typeface="Times New Roman"/>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ief Executive Officer.</a:t>
            </a:r>
            <a:endParaRPr b="0" lang="en-US" sz="16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maximum of </a:t>
            </a:r>
            <a:r>
              <a:rPr b="1" lang="en-GB" sz="1600" spc="-1" strike="noStrike">
                <a:solidFill>
                  <a:srgbClr val="000000"/>
                </a:solidFill>
                <a:latin typeface="Times New Roman"/>
              </a:rPr>
              <a:t>5</a:t>
            </a:r>
            <a:r>
              <a:rPr b="0" lang="en-GB" sz="1600" spc="-1" strike="noStrike">
                <a:solidFill>
                  <a:srgbClr val="000000"/>
                </a:solidFill>
                <a:latin typeface="Times New Roman"/>
              </a:rPr>
              <a:t> of the 15 directors may be members of prescribed accountancy bodi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uthority’s Statutory Remit</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Authority’s statutory remit, insofar as it directly relates to the prescribed bodies, can be broadly divided into the following categori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pproval; </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Supervision; and</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Investigation/enforc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5:46:26Z</dcterms:created>
  <dc:creator>Denis Hosford</dc:creator>
  <dc:description/>
  <dc:language>en-US</dc:language>
  <cp:lastModifiedBy>Brendan Moylan</cp:lastModifiedBy>
  <dcterms:modified xsi:type="dcterms:W3CDTF">2005-08-15T11:12:50Z</dcterms:modified>
  <cp:revision>1092</cp:revision>
  <dc:subject/>
  <dc:title>PowerPoint Presentation</dc:title>
</cp:coreProperties>
</file>