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D7B-4EAD-48B2-BFD0-98B35BDB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5E4-41C1-4786-A9DF-FEC0F1FD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2B3-ECE1-4D7F-9372-49586FF6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50F-E246-4206-B4FB-4018EFAF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866-D94F-4252-A619-B9F7131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79C-7606-438C-9AFC-7FE13936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3C8-46AA-4345-9D00-B8B077C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64B-E857-45E7-A582-AF425095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FF3-97A7-4033-B568-72D11A0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FCB-43DE-4224-827A-C7D1504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757-0601-458F-8656-8FE8131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FD8-28F0-46F8-A6FB-62CC82A8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A1E7-5CD9-4E80-9DED-4391DBDC9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’s principal functions will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romoting adherence to the highest standards in the prof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viewing the financial statements of certain companies and other undertakin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-operating in the development of accounting standards and practice not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sidering applications for recognition for audit purpos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upervising the manner in which the accountancy bodies monitor (including work quality) and regulate (including investigation and disciplinary functions) their me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 deemed appropriate, conducting investgations into bodies and/or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-operating in the development of auditing and ethical standa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Brief outline of IAASA function re: Supervision of Accountancy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cribe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dies recognised under the 1990 Act for audit purposes (i.e. ACCA, ICAEW, ICAI, ICAS, ICPAI, IIPA)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dies prescribed by the Minister (AIA, CIMA and CIPF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ffect of Prescription i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 prescriptees within the Authority’s supervisory remit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 prescriptees to contribute towards the Authority’s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upervision of Accountancy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statutory remit, insofar as it directly relates to the prescribed bodies, can be broadly divided into the following 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ppro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vestigation/enfor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’s approval func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al of bodies’ constitutions, bye-laws, regulations and standards, together with any subsequent amendments ther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ranting of recognition of accountancy bodies for audit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ttachment of conditions to recogn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e-approval of bodies’ regulatory and monitoring p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supervisory func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 of the operation of each prescribed body’s complaints, investigation, disciplinary and appeal procedu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 of how each recognised accountancy body monitors its 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performance of section 25 reviews of members  (reviews for the purposes of  determining whether the body in question is, or has been, regulating its members in the manner approved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ex-post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review of bodies’ reports on their regulatory and monitoring activities and requiring explanations for variances between planned and actual a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vestigation/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conduct enquiries under section 23 into whether a prescribed body has complied with its approved investigation and disciplinary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not satisfied that a prescribed body has complied with its approved investigation and disciplinary procedures, the Authority may impose sanctions on that bo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undertake investigations under section 24 into possible breaches (by a member) of the standards of a prescribed bo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a member is found to have committed a breach of a body’s standards , the Authority may impose any sanction available to the body on the 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owers &amp; Sa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ection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Authority may, for the purpose of determining whether a prescribed body has complied with its approved investigation and disciplinary procedures, enquire i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decision not to undertake an investiga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conduct of an investiga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y other decision by a body in relation to a possible breach by a m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the purpose of such an enquiry, the Authority ma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spect, and take copies of, all relevant documents in the possession or control of a body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quire a body to explain why it reached a decision referred to above and/or to explain how it conducted its investig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discharging its remit, the Authority will seek to achieve the following 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enhance confidence in the regulatory and monitoring processes governing members of the auditing and accountancy profess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protect and promote the public interest through effective, independent oversight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o ensure the constitutions, bye-laws, regulations and standards of the prescribed bodies conform to a common high standard consistent with international best prac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ncial Reporting Supervis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Reporting Supervision Function of IA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vana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of Financial Reporting 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Principal functions of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inancial Reporting Review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accounts of certain classes of companies and other undertakings comply with the Companies Acts and IAS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ing policy regarding the imposition of levies on the Authority’s financial statement review constitu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isting the Board to discharge its functions as an advisor to the Minister on accounting related ma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ifying, and maintaining under review, the composition of the Authority’s financial statement review constitu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aising with other countries’ financial reporting monitoring b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-operating in the development of accounting standards and practice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Compliance with the Companies Acts and the IAS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monitoring whether financial statements have been prepared in accordance with company law and, where applicable, the IAS Regulation, relevant considerations will inclu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rescribed forma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tatutory disclosure requiremen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dherence to ‘applicable accounting standards’ and, in cases of departure from same, disclosure of requisite detai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ny matters to which members’ attention has been drawn in auditors’ repor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 applicable, the requirements of IAS/IFRS, as adopted by the E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uthority’s Review Constit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Authority’s review constituency compri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plcs (whether listed or no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subsidiary undertakings of pl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private companies limited by shares that, in both in the relevant financial year and the immediately preceding financial year, satisfy the following criter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alance sheet total exceeds €25m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urnover exceeds €50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private companies limited by shares which, when aggregated with their subsidiary undertakings, exceed the aforementioned threshol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ll subsidiary undertakings of the preceding class of private companies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ertain other undertakings, and where applicable their subsidiary undertakings, that satisfy the aforementioned criteria, including unlimited companies and partnerships whose members having unlimited liability are themselves limited compan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evant Exemptions / S15 Lev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provides potential exemptions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entities already subject to, what in the Minister’s opinion, is an appropriate level of supervision/regulation;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10 TCA ’97 entities (securitisation vehic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ty has commissioned research to establish the scale of the constitu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Proposed Approach to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Financial Statement Super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ct suggests a proactive rather than reactive approach to monito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isk based selection methodologies will be employed which may, for example, give ris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ntity/group specific reviews; and/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ssue/sectoral specific revie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phasis will be on instances of material non-compli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circumstances where there is, or may be, an issue regarding a set of financial statements’ compliance with the Companies Acts or the IAS Regulation, and those financial statements have b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seminated to members in advance of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aid before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livered to the Reg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give notice to the directors of the entity conce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forementioned notice must speci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matters in respect of which it appears to the Authority that a question of non-compliance arise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eriod of not less than 30 days in which the directors are required to furnish the Authority with an explanation of the financial statements or prepare revised financial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that, at the end of the specified period, the directors have neither, in the Authority’s opin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iven a satisfactory 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nor revised the financial state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apply to the High Court for a declaration of non-compliance and associated or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, having considered the matter, the High Court is satisfied that an instance of non-compliance exists, the Court may make a declaration to that effect and may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; order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vision of the financial statements and/or directors’ re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-audit of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directors take specified steps to bring the Court order to the notice of persons likely to rely on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Authority’s, and reporting entity’s, costs be awarded against the directors (in that context, every person who was a director at the time the financial statements were approved is considered to have been a party to that approval unless s/he can show that they took all reasonable steps to prevent approval (section 26(9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of an application being made to the High Court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of the applicat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statement of the matters at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 the conclusion of proceedings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py of the Court Order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at the application has failed or has been with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rief history and overview of the 2003 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AAS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bjects and functions of IA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nancial Reporting Supervi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view Constit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nding and the Reserv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ther activities of Financial Reporting Supervisio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Consistent Enforcement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of IFRS in the 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IAS Regulation provides, 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, that a proper and rigorous enforcement regime is key to underpinning investors’ confidence in financial markets and, in that context, that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‘…the 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[EU]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 Commission intends to liaise with member States, notably through the Committee of European Securities Regulators (CESR), to develop a common approach to enforcement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.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that end, CESR has established an enforcement co-ordination forum, at which the Authority is represent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rough that forum, a database of member States’ enforcement decisions regarding IFRS will be establish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ile not having the strict status of precedents, these decisions will serve to inform other enforcers’ deliberative and decision making proc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ct provide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exchequer will provide 40% of the Authority’s funding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remaining 60% will be provided by the profession (by way of a levy on the prescribed bod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dies and IAASA have agreed a model for apportioning every bodies con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dget &amp; Funding - 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budget – 2006: €2.297m, provided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equ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1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3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P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9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P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5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spects to funding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 Day to day operation of IA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 Reserve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‘Reserve Fund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ection 15 of the Act requires the Authority to establish and maintain a Reserve F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purposes of the Fund is twofold, namely to discharge the costs associated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nforcement in instances of non-compliance of financial statements with the Companies Acts and, where applicable, Article 4 of the IAS Regula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vestigations into possible breaches of an accountancy body’s standards etc. by a 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evant Exemptions / S15 Le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hority developing policy options on S15 lev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der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s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/benefit consideration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al advice received by the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lexiti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vate companies’ turnover and total assets figures not captured by CRO. Therefore, a large scale manual exercise is requir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7 guarant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lers of ultimate group financial stat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dentity of S110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 consultation will be undertaken by the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ther fun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sting the Board to discharge its functions as an advisor to the Minister on accounting related mat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B observer status, Liason with IASB, advice on various matters as have ari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aising with other countries’ financial reporting monitoring bodies 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mber of E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ying, and maintaining under review, the composition of the Authority’s financial statement review constit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-operating in the development of accounting standards and practic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rther information on the Authority and its activities may be obtained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IA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IE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 Floor, Willow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Millennium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N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. Kil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el: +353 (0)45 983600      Fax: +353 (0)45 9836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Email: info@iaasa.ie    Web: www.iaasa.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ish Auditing and Accounting Supervisory Authority (IAAS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Reporting Supervision Function is part of IAASA so who are IAASA and what are its functions ……………………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GA (2000) - Terms of reference included an examin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ther self regulation of the accountancy profession was working effectively and consistentl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uditor independence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ole of the auditor in ensuring companies’ compliance with law and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GA recommended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tablishment of an Oversight bod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ancial reporting review func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irement for Directors’ Compliance Stat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2003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commendations of the RGA accepted by Government in Dec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GA’s recommendations given the force of law by the Companies (Auditing and Accounting) Act,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2003 Act deals principally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establishment of IAASA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Other Measures to Strengthen the Regulation of Auditors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’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statutory backing for accounting standar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udit committ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ccounting polic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uditors’ remuneration (analysed by audit, audit related and non-audit)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rectors’ Compliance Stat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AASA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mpany ltd. by guarantee - Board comprises 15 directors, nominated th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2 (including the Chairperson) nominated by the Minist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3 nominated jointly by the prescribed accountancy bod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9 nominated by the following bodies (1 each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BEC                            IC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AIM                            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nsions Board            IFS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venue                       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ief Execu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ximum of 5 of the 15 directors may be members of prescribed accountancy bod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me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ose sections of the Act necessary to permit the establishment of the Authority were commenced on 20 December 2005 (S.I. No. 791 of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site Ministerial designation occurred on 3 January, from which date the Supervisory Authority came into formal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of the Authority’s statutory functions and powers were commenced on 3 February 2006 (S.I. No. 56 of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tatutory Remit (S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upervise how the prescribed accountancy bodies regulate and monitor their 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promote adherence to high professional standards in the auditing &amp; accountancy prof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accounts of certain classes of companies and other undertakings comply with the Companies Acts and, where applicable, Article 4 of the IAS Regulation [reference to IFRS inserted by S.I. No. 116 of 2005]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act as a specialist source of advice to the Minister on auditing and accounting ma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5:17:43Z</dcterms:created>
  <dc:creator>mkavanagh</dc:creator>
  <dc:description/>
  <dc:language>en-US</dc:language>
  <cp:lastModifiedBy>mkavanagh</cp:lastModifiedBy>
  <dcterms:modified xsi:type="dcterms:W3CDTF">2006-03-28T14:05:22Z</dcterms:modified>
  <cp:revision>2</cp:revision>
  <dc:subject/>
  <dc:title>Slide 1</dc:title>
</cp:coreProperties>
</file>