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907-06AD-49DD-996D-41DC6920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82E-1E5B-4011-8780-EB92622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E63-AAA3-4173-A9A7-CBB0EAA3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089-1024-4CD5-9A5C-F795C331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0D6-481D-4080-A34B-C16CB005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786-D898-438C-B25E-B6C78F3F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2F7-DCAB-43C8-973E-2A6E8FD5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1AC-3459-4F36-A477-22EAF461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9B3-47AE-49C0-B134-12C41C85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50D-7F6B-441C-8F4D-C984B83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CE7-02F5-4B1D-B3B9-4415C8E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812-17A2-486D-B1AB-75505AF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14E-B8F0-4337-B4FA-2946781C2F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view constituency compri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l plcs, whether listed or no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sidiary undertakings of pl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vate companies limited by shares who, in the current and preceding year, satisfy the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/S total exceeds €25m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/O exceeds €50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vate companies which, when aggregated with their subsidiary undertakings, exceed the aforementioned threshold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sidiaries of the preceding class of companies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ther undertaking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’ satisfying the aforementioned criteria – e.g. unlimited companies and partnerships whose members having unlimited liability are themselves limited compan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Compliance with the Companies Acts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– considerations include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rescribed formats (as set out in the 1986 A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tatutory disclosure requirements (e.g. details of subsidiaries, directors’ remuneration, transactions with directors etc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quirement for financial statements to give a ‘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true and fair view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While the term ‘</a:t>
            </a:r>
            <a:r>
              <a:rPr b="0" i="1" lang="en-IE" sz="1400" spc="-1" strike="noStrike">
                <a:solidFill>
                  <a:srgbClr val="000000"/>
                </a:solidFill>
                <a:latin typeface="Times New Roman"/>
              </a:rPr>
              <a:t>true and fair view</a:t>
            </a: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’ is not defined in the Companies Acts, it is generally accepted that, in most circumstances, in order for a set of financial statements to give a true and fair view, they should be prepared in compliance with accounting standards as well as with statutory requir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Accordingly, in circumstances where directors are of the view that a departure from an accounting standard is required in order to present a true and fair view, the reasons for, and effect of, any such departure are required to be disclosed in the financial stat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a company’s financial statements have be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disseminated to members in advance of the AGM;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laid before the AGM;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delivered to the Registr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nd there is, or may be, a question of non-compliance, the Authority may give notice to the direc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forementioned notice must specif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matters in respect of which it appears to the Authority that a question of non-compliance arises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 period of not less than 30 days in which the directors are required to furnish the Authority with an explanation of the financial statements or prepare revised financial stat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the event that, at the end of the specified period, the directors have neither, in the Authority’s opinion, given a satisfactory explanation nor revised the financial statements, the Authority may apply to the High Court for a declaration of non-compliance and an associated Or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f satisfied that an instance of non-compliance exists, the High Court may make a declaration to that effect and may,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; order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revision of the financial statements and/or the directors’ rep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re-audit of the financial statem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payment by the directors of the Authority’s costs*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*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very person who was a director at the time the financial statements were approved is considered to have been a party to that approval unless s/he can show that they took all reasonable steps to prevent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of an application being made to the High Court, the Authority is required to furnish the Registrar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ice of the applica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general statement of the matters at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ly, on the conclusion of the proceedings, the Authority is required to furnish the Registrar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copy of the Court Order;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ice that the application has failed or has been withdra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ct provides that the Authority may levy the companies and other undertakings coming within its review rem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riteria for apportioning the levy will be developed by the Auth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ct provides for differing levels of levies for different classes of undertak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circumstances where a parent and one or more subsidiaries would satisfy the criteria, only the parent will be lev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uthority’s proposals in this regard require Ministerial approval in advance of being put into eff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rafting of operating procedures governing the review function is a requirement of the Act and will be a priority upon formal establish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takeholders’ views will be sought in advance of finalis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Board’s preference is likely to be to seek to resolve any issues arising through dialogue and correspond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Matters arising will be dealt with on a confidential basis unless notification to the Registrar is required or financial statements are amend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udit Committees and IF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ile significant benefits are likely to accrue from the transition to IFRS, first time adoption is likely to result in an increased risk of error and/or misstat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Irish business has some way to go to be ready for the implementation of IFRS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Source: ICAI/DCU survey of ICAI members/students - published in current edition of Accountancy Ireland)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ome 39% of respondents employed by companies obliged to adopt IFRS were unable to indicate that their companies were either very well prepared (17%) or fairly well prepared (44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udit Committees, therefore, have a crucial role to play in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overseeing the management of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these ris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udit Committees and IF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uidance recently issued by the ICAEW* suggests that Audit Committees should be identifying the matters anticipated to affect their consideration of financial statements prepared on the basis of IFRS, including, for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nagement’s IFRS implementation pla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lection and adoption of IFRS compliant accounting polic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impact of IFRS on areas of accounting involving significant levels of judgem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clarity and compliance of disclosures and explanations relating to the implementation of IF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risk of transition being being used as an opportunity to deliberately misstate financial reports/stat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urce: Institute of Chartered Accountants in England &amp; Wales (ICAEW) – Technical Release ‘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udit 03/04: Auditing Implications of IFRS Transi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uthority’s Current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rafting first work programme (3 year peri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Quantifying likely financial and human resource requirements over that peri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nsulting with accountancy bodies (who are required by the Act to fund 60% of the Authority’s annual budge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eparing for submission of the work programme for Ministerial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ddressing accommodation and related support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entation to Attendees a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dit Committee Institute Ireland D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rrion Hotel, Dub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ctober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an Dre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ief Executive (Design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nd of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2003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view of Financial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current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ribunal of Inquiry (Dunnes Payments) ‘McCracken’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ribunal of Inquiry (Messrs Haughey and Lowry) ‘Moriarty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ointment of Authorised Officers and Inspectors to a number of compani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vestigations into certain parties’ professional con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AC – DIRT Report (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dverse findings against, and criticisms of, financial institutions, State agencies and elements of the institutions’ external audit fu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commended the establishment of a Review Group on Audi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GA (2000) - Terms of reference included an examination of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ther self regulation of the accountancy profession was working effectively and consistentl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uditor independence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ole of the auditor in ensuring companies’ compliance with law and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GA recommended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tablishment of an Oversight bod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RRP func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irement for Directors’ Compliance Stat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2003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commendations of the RGA accepted by Government in Decembe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GA’s recommendations given the force of law by the Companies (Auditing and Accounting) Act,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2003 Act deals principally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establishment of IAASA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Other Measures to Strengthen the Regulation of Auditors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’,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statutory backing for accounting standar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audit committ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sclosure of accounting polic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sclosure of auditors’ remuneration (analysed by audit, audit related and non-audit)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rectors’ Compliance Stat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mpany limited by guarant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To supervise how the prescribed accountancy bodies regulate and monitor their memb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To promote adherence to high professional standards in the auditing and accountancy prof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To monitor whether the financial statements of certain companies and other undertakings comply with the Companies Acts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To act as a specialist source of advice to the Minister on auditing and accounting matters.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Board will comprise 15 directors, nominated th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2 (including the Chairprson) nominated by the Minist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3 nominated jointly by the prescribed accountancy bod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9 nominated by the following bodies (1 each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BEC                            IC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AIM                            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ensions Board            IFS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venue                       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ief Executive Officer (appointed by the other director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aximum of 5 of the 15 directors may be members of prescribed accountancy bod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’s principal functions will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romoting adherence to the highest standards in the prof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viewing the financial statements of certain companies and other undertakin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sidering applications for recognition for audit purpos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upervising the manner in which the accountancy bodies monitor (including work quality) and regulate (including investigation and disciplinary functions) their memb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re deemed appropriate, conducting investgations into bodies and/or me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-operating in the development of auditing and ethical standa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Brendan Moylan</cp:lastModifiedBy>
  <dcterms:modified xsi:type="dcterms:W3CDTF">2005-08-15T11:14:35Z</dcterms:modified>
  <cp:revision>979</cp:revision>
  <dc:subject/>
  <dc:title>PowerPoint Presentation</dc:title>
</cp:coreProperties>
</file>