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35D-49CB-4944-B4B7-531F9039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DAE-A75D-4B22-80E9-6B0A64BA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CDE-F959-45AC-89FB-F98F5AEC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15D-8C94-426B-A8B7-265C149A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1F1-ADFE-4ACD-B53A-5B970CFB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729-D02D-4779-B659-A843B262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578-B6BB-4E37-9294-B071CD57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D5C-6FC1-4ED4-A9A3-60C20802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FFF-7E55-4B0B-86AC-66809553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F6D-C85D-4E36-B5A9-2613003F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8C8-F81A-4103-B79D-A7A8ECDA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F09-CAC1-41AE-B592-59E81009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ECC4-C2B9-48F1-B897-5229D054A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Authority’s approval functions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pproval of bodies’ constitutions, bye-laws, regulations and standards, together with any subsequent amendments there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granting of recognition to accountancy bodies for audit purpos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attachment of conditions to recognition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re-approval of bodies’ regulatory and monitoring pl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uthority’s supervisory function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upervision of the operation of each prescribed body’s complaints, investigation, disciplinary and appeal procedu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upervision of how each recognised accountancy body monitors its memb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performance of section 25 reviews of members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ex-post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review of bodies’ reports on their regulatory and monitoring activities and requiring explanations for variances between planned and actual ac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vestigation/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onduct of enquiries under section 23 into whether a prescribed body has complied with its approved investigation and disciplinary procedu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here not satisfied that a prescribed body has complied with its approved investigation and disciplinary procedures, the Authority may impose sanctions on that bod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Undertake investigations under section 24 into possible breaches of the standards of a prescribed body by a member/member firm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here a member is found to have committed a breach of a body’s standards, the Authority may impose any sanction available to the body of the me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 discharging its supervisory remit over the prescribed bodies, the Authority is adopting the following approa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ch body is being subjected to an initial review (visits commenced on 6 Februar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views are examining each body’s systems, practices and procedures etc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cope and frequency of subsequent reviews of each body will be determined having regard to appropriate risk factors, including, </a:t>
            </a: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, results of initial reviews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views include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the examination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itutions/Memorandum &amp; Articles etc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ye-laws &amp; Regulation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des of Ethics and Rules of Professional Condu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licable Standard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-relationship between members’ obligations and disciplinary process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laints handling procedu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vestigative processes and procedu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ciplinary processes and procedu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eals processes and procedu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ssions and licensing processes and procedures, i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ewal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ocation of certificates and authorisations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ing experience, PII, CPD etc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nitoring processes and procedures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m risk assessment and selection methodologi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nitoring cycl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nitoring approach, scope, emphasis, programmes and file selection procedur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ading criteria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odies’ follow-up to unsatisfactory monitoring vis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views also include ‘shadowing’ bodies’ inspection staff on selected visits to member fi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AASA working with POBA in the UK to reduce unnecessary duplication of supervisory ac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U &amp; International Develop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U has recently approved revisions to the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mpany Law Directive (statutory audit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mber States required to transpose the Directive into domestic legislation by early 200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rective requires all Member States to establish public oversight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AASA legislation complaint with the revis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U &amp; International Develop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preparation for the enactment of the Directive, the EU Commission has established the European Group of Auditors’ Oversight Bodies (‘EGAOB’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AASA is an EGAOB me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GAOB role inclu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acilitating co-operation between Member States’ oversight sys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amining relevant considerations in the context of transfer of information between authorities including, for example, professional secrecy and data protection implica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ibuting to the evaluation of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ountries’ oversight systems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ributing to the EU’s examination of ISAs with a view to adop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AASA – 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sentation to ACCA CPD S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tletroy Park Hotel, Limer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CD Students’ Centre, Dub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ebruar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an Drenn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ief Execu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U &amp; International Develop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ernationally, steps are being taken to establish an international forum of audit regula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AASA is party to this initia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tionale for establishing such a forum inclu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cilitating co-operation between international oversight systems and reciprocity arrangemen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cilitating liaison with other key international players, including the global firms, securities regulators, standard setters, preparers and users etc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ancial Reporting Supervision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Authority’s Review Constitu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it is provided for by Section 26 of the Act. Section 26 will be commenced later in the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mit: ‘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monitor whether the financial statements of certain classes of companies and other undertakings comply with the Companies Acts and, where applicable, the IAS Regu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uthority’s review constituency compri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plcs (whether listed or not) and their subsidiari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private companies limited by shares that, in both in the relevant financial year and the immediately preceding financial year, satisfy the following crite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lance sheet total exceeds €25m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urnover exceeds €50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Authority’s Review Constitu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private companies limited by shares which, when aggregated with their subsidiary undertakings, exceed the aforementioned thresholds and their subsidiari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rtain other undertakings, and where applicable their subsidiary undertakings, that satisfy the aforementioned criteria, including unlimited companies and partnerships whose members having unlimited liability are themselves limited companies (aka ‘Regulation 6 Entities’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evant Exemptions / S15 Lev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2635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provides potential exemptions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10000"/>
              </a:lnSpc>
              <a:spcBef>
                <a:spcPts val="499"/>
              </a:spcBef>
              <a:buClr>
                <a:srgbClr val="2635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entities already subject to, what in the Minister’s opinion, is an appropriate level of supervision/regulation;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10000"/>
              </a:lnSpc>
              <a:spcBef>
                <a:spcPts val="499"/>
              </a:spcBef>
              <a:buClr>
                <a:srgbClr val="2635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10 TCA ’97 entities (securitisation vehic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2635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ity has commissioned research to establish the scale of the constitue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levant Exemptions / S15 Lev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uthority developing policy options on S15 lev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ideration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is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a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t/benefit considerations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gal advice received by the Auth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lexitie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 companies’ turnover and total assets figures not captured by CRO. Therefore, a large scale manual exercise is requir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7 guarante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lers of ultimate group financial statemen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dentity of S110 compan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 consultation will be undertaken by the Auth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Approach to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Financial Statement Super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ct suggests a proactive rather than reactive approach to monito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CESR standards require a proactive approach in any event (next slide refer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isk based selection methodologies will be employed which may, for example, give rise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ntity/group specific reviews; and/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ssue/sectoral specific revie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mphasis will be on instances of material non-compli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Enforcement of IFRS in the 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IAS Regulation provides, </a:t>
            </a: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, that a proper and rigorous enforcement regime is key to underpinning investors’ confidence in financial markets and, in that context, that</a:t>
            </a: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‘…the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[EU]</a:t>
            </a: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 Commission intends to liaise with member States, notably through the Committee of European Securities Regulators (CESR), to develop a common approach to enforcement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.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o that end, CESR has established an enforcement co-ordination forum (EECS), of which IAASA is a me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rough that forum, a database of member States’ enforcement decisions regarding IFRS has been establish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While not having the strict status of precedents, these decisions will serve to inform other enforcers’ deliberative and decision making proc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 circumstances where there is, or may be, an issue regarding a set of financial statements’ compliance with the Companies Acts or the IAS Regulation, and those financial statements have be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isseminated to members in advance of the AGM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aid before the AGM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elivered to the Regis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uthority may give notice to the directors of the entity concer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forementioned notice must specif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matters in respect of which it appears to the Authority that a question of non-compliance arises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period of not less than 30 days in which the directors are required to furnish the Authority with an explanation of the financial statements or prepare revised financial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Present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Commencement/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emit/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upervision of the Prof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inancial Reporting Super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 the event that, at the end of the specified period, the directors have neither, in the Authority’s opin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given a satisfactory expla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nor revised the financial state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uthority may apply to the High Court for a declaration of non-compliance and associated or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f, having considered the matter, the High Court is satisfied that an instance of non-compliance exists, the Court may make a declaration to that effect and may, </a:t>
            </a: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; order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revision of the financial statements and/or directors’ re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re-audit of the financial state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at the directors take specified steps to bring the Court order to the notice of persons likely to rely on the financial state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at the Authority’s, and reporting entity’s, costs be awarded against the directors (in that context, every person who was a director at the time the financial statements were approved is considered to have been a party to that approval unless s/he can show that they took all reasonable steps to prevent approval (section 26(9)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 the event of an application being made to the High Court, the Authority is required to furnish the CRO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ice of the application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general statement of the matters at iss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 the conclusion of proceedings, the Authority is required to furnish the CRO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py of the Court Order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ice that the application has failed or has been withdra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ther Authority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aling with complaints received from members of th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lication for Recognised Body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ection of ‘Accountan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RG –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B – 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B – 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urther information on the Authority and its activities may be obtained 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IA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IE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 Floor, Willow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Millennium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N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Co. Kild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Tel: +353 (0)45 983600      Fax: +353 (0)45 9836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Email: info@iaasa.ie    Web: www.iaasa.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End of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e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ose sections of the Act necessary to permit the establishment of the Authority were commenced on 20 December 2005 (S.I. No. 791 of 200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isite Ministerial designation occurred on 3 January, from which date the Supervisory Authority came into formal exist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st of the Authority’s statutory functions and powers were commenced on 3 February 2006 (S.I. No. 56 of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IA, CIMA and CIPFA were prescribed on 6 February (S.I. No. 57 of 2006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Prescribed 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ine Prescribed Bodi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x Recognised Bodies (ACCA, ICAEW, ICAI, ICAS, ICPAI and IIPA)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e Ministerial prescriptees (following Authority recommend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effect of Prescription is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ing prescriptees within the Authority’s supervisory remit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ire prescriptees to contribute towards the Authority’s funding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dget &amp; Funding - 20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budget – 2006: €2.297m, provided th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hequ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19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A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3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PA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9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P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5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A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2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8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PF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4,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tatutory Remit (S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upervise how the prescribed accountancy bodies regulate and monitor their memb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promote adherence to high professional standards in the auditing &amp; accountancy profe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monitor whether the accounts of certain classes of companies and other undertakings comply with the Companies Acts and, where applicable, Article 4 of the IAS Regulation [reference to IFRS inserted by S.I. No. 116 of 2005]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act as a specialist source of advice to the Minister on auditing and accounting mat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ion of the</a:t>
            </a:r>
            <a:br>
              <a:rPr sz="4400"/>
            </a:b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Prescribed Accountancy 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upervision of Accountancy Bo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uthority’s statutory remit, insofar as it directly relates to the prescribed bodies, can be broadly divided into the following categor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pprov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upervision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vestigation/enforc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5:46:26Z</dcterms:created>
  <dc:creator>Denis Hosford</dc:creator>
  <dc:description/>
  <dc:language>en-US</dc:language>
  <cp:lastModifiedBy>idrennan</cp:lastModifiedBy>
  <dcterms:modified xsi:type="dcterms:W3CDTF">2006-02-27T09:35:42Z</dcterms:modified>
  <cp:revision>1334</cp:revision>
  <dc:subject/>
  <dc:title>PowerPoint Presentation</dc:title>
</cp:coreProperties>
</file>